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161-D54F-43C5-975A-CC01DCC5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E28-880D-44EF-888A-7B65CF17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09D-2F73-487D-8D67-3CC674E4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1D4-605C-44BD-A3F8-4D18E45C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F7F-8B87-449C-8584-27693AAC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0F6-E90C-4808-9070-3976525D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67E-BB20-44FC-A7F9-C5002DE4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C8F-3725-453F-BF6E-8D97736E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F17-3A97-424B-966D-98848907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148-4D1C-4138-91A8-F35F626D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EB0-6032-40DE-AEE1-FBA901BD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94DF-0274-47DA-B1DA-D621191A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7F13-1713-4978-98D5-8D6F5751E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bina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23623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209680"/>
            <a:ext cx="457200" cy="609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971800"/>
            <a:ext cx="60984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88620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809880"/>
            <a:ext cx="914400" cy="76212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724280"/>
            <a:ext cx="457200" cy="609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4648320"/>
            <a:ext cx="60984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419720" y="2514600"/>
          <a:ext cx="4038480" cy="2070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t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g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ley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mna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3080" y="304920"/>
            <a:ext cx="84582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n experiment you have to choose two of the three shapes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9907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99072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38080"/>
            <a:ext cx="60948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75248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1676520"/>
            <a:ext cx="121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752480"/>
            <a:ext cx="1066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514600"/>
            <a:ext cx="68580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draw all the possible choices that can be ma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200400"/>
            <a:ext cx="1600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200400"/>
            <a:ext cx="1295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809880"/>
            <a:ext cx="4572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3809880"/>
            <a:ext cx="457200" cy="609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6483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572000"/>
            <a:ext cx="60948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48640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410080"/>
            <a:ext cx="60948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3733920"/>
            <a:ext cx="2971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hree possible combinations of sha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4582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e same experiment is repeated but with 4 sha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91440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91440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762120"/>
            <a:ext cx="60948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1676520"/>
            <a:ext cx="1447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1600200"/>
            <a:ext cx="1219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1676520"/>
            <a:ext cx="1067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762120"/>
            <a:ext cx="914400" cy="76176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1600200"/>
            <a:ext cx="1523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t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362320"/>
            <a:ext cx="65530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draw all the possible choices for four sha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3048120"/>
            <a:ext cx="1219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971800"/>
            <a:ext cx="121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581280"/>
            <a:ext cx="4572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342900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434340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4191120"/>
            <a:ext cx="60984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1055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5029200"/>
            <a:ext cx="914400" cy="76212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94360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5867280"/>
            <a:ext cx="60984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3048120"/>
            <a:ext cx="0" cy="3429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971800"/>
            <a:ext cx="1219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2895480"/>
            <a:ext cx="121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3581280"/>
            <a:ext cx="457200" cy="609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429000"/>
            <a:ext cx="914400" cy="76212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4343400"/>
            <a:ext cx="60948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4267080"/>
            <a:ext cx="914400" cy="76212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5562720"/>
            <a:ext cx="2819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6 possible combin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228600"/>
            <a:ext cx="85345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chool’s P.E department offers pupils a choice of two activitie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838080"/>
            <a:ext cx="31244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ivities must be chosen from this tab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0" y="914400"/>
          <a:ext cx="4038480" cy="2070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t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g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ley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mna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380880" y="3124080"/>
            <a:ext cx="79632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down the different choices a pupil could mak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360" y="37339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52760" y="37339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36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276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36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908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g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36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5276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mna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04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638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10160" y="37339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67560" y="37339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019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g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mna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4419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ley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952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ley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876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g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ley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5410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mna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5880"/>
            <a:ext cx="4267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ine possible cho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3657600"/>
            <a:ext cx="0" cy="3200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8:26:44Z</dcterms:created>
  <dc:creator>LT Scotland</dc:creator>
  <dc:description/>
  <dc:language>en-US</dc:language>
  <cp:lastModifiedBy>Computing Department</cp:lastModifiedBy>
  <dcterms:modified xsi:type="dcterms:W3CDTF">2004-08-10T11:55:14Z</dcterms:modified>
  <cp:revision>11</cp:revision>
  <dc:subject/>
  <dc:title>Access 3 Mathematics: Unit 1 Outcome 3 Combinations.</dc:title>
</cp:coreProperties>
</file>